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A9C-C213-4DE9-B8E4-BC8E1973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1D6-952B-4C65-A658-3D20FF7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09-4B9B-47FB-BA4E-65969FB3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6CD-9241-47C6-92AA-EA4D4EC0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2F9-C72F-4DB1-AF9B-FD7A6F6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C61-68F8-4022-8150-EE4726EA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022-E5D9-4A6F-A5B4-756392B4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C85-D265-481E-A8E5-CB688B46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2DD-C04D-48E4-8CB6-19CF5D0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1C3-3927-4753-B5D3-92ADDE9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EEF-14D4-4108-BFD7-4D3AEBB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92D-A2C5-4ECF-A186-1A91EBC0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10E-9A69-401C-B150-19EBCB5D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op on a Federated Approach for Improved Use of Environmental Information in China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jing Normal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3-2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Townshend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Hutch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Y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We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going discussions between ESIP Federation (J. Townshend, University of Mary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exploring the suitability of the Federation structure by Chinese Earth scienc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hend, Hutchinson, Yunck and Wertz represented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delegation composed of agency and university representatives, led by Prof. Shi Peijun, Vice President of Beijing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of the US Federation:  its goals, achievements, and why it has been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of the Federation: how it organizes and governs itself and serves its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 of data and services with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issues in improving the delivery of services an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ies of setting up a Chinese Fe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Federation as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and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US activities @ Maryland (Global Land Cover Facility; JPL (GPS Environmental and Earth Science Information System; and Arizona (Arizona Regional Image Archive; Range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hines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effort planned over the next 10 years for many purpo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ully grasp because of number of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rray of research activities underway in a number of agencie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very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 /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will be a major issue – ownership of environmental data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enterprise” model may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on of US system unli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Federation within Chinese context must be clearly defined (i.e., what does it bring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be required to secur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inked to 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patial data infrastructure required to facilitat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 /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hina – US Conference in 200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notes on environmental data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d presentations on overcoming barriers related to: (a) technical issues; (b) infrastructure issues; and (c) data policy and lega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publicatio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 of Chinese satellite remote sensing plans (Townshend le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ing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760" y="2317680"/>
            <a:ext cx="8686800" cy="22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6480" y="491328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quet with Prof. Guanhua Xu, Minister of Science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23:00:18Z</dcterms:created>
  <dc:creator>The Office for Arid Lands Studies</dc:creator>
  <dc:description/>
  <dc:language>en-US</dc:language>
  <cp:lastModifiedBy>The Office for Arid Lands Studies</cp:lastModifiedBy>
  <dcterms:modified xsi:type="dcterms:W3CDTF">2007-01-05T16:36:06Z</dcterms:modified>
  <cp:revision>4</cp:revision>
  <dc:subject/>
  <dc:title>Workshop on a Federated Approach for Improved Use of Environmental Information in China  Beijing Normal University October 23-25, 2006</dc:title>
</cp:coreProperties>
</file>